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8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28BE-CF70-4F57-AA23-58A4363C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966E-BBE6-49A1-852C-79E3FBF8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00C7-A70B-4EDF-8C4B-C998893C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F202-AB81-417A-BAB4-BC3764D3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FF4D-CD22-4084-AD9E-D50DC21A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EECC-1C79-4F11-8773-5B7B4AD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7463-9105-4BC8-8E0C-FC9048C5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373A-EAE6-4790-96C8-73B70D95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0AA3-AC47-42DA-9426-EFCD186B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3FE6-736E-49DB-866C-15D57C2B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9867-8AAD-40B1-AD6C-E66C3D0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1CC7-D590-407D-A5F5-B670FCF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3B6D-BC75-4B1C-85AF-A1ED4188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2D75-AB72-4E67-82D0-9E35FB2E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D2EF-4E9D-4304-B412-6B0F83DC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8EF5-D1FA-49E7-A0AF-C008ACDA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965A-9FBF-4DB6-A44F-0A65D668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7316-4510-4D61-A025-97748D40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7522-A683-4BC6-A9D1-540E71C0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9374-79BE-4F9F-851F-BF46CE7A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BE22-858C-4AE5-B119-1760EB5E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2730-F5AE-4361-8E40-D1036276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8695-2188-4D89-9781-D50FC12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AD87-2CDD-4387-9C51-F9CD1339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CDA6-3EB4-4247-A7AB-5E69A5525D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AC0A-8070-4954-B621-A0711F1A9D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17080" y="1600200"/>
            <a:ext cx="1411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360" bIns="453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72040" y="3885840"/>
            <a:ext cx="1126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1440000" cy="136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2340000" y="2492280"/>
            <a:ext cx="1440000" cy="136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6156360" y="770040"/>
            <a:ext cx="14400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C 0.01684 -0.0074 0.00764 -0.00463 0.04166 -1.48148E-006 C 0.05416 0.00162 0.06302 0.01737 0.07083 0.02778 C 0.08819 0.05093 0.09427 0.1 0.1 0.13056 C 0.10156 0.15209 0.10416 0.17292 0.10625 0.19445 C 0.10833 0.24537 0.09757 0.31297 0.13541 0.34445 C 0.14392 0.35162 0.15885 0.35116 0.16875 0.35556 C 0.18958 0.35371 0.21059 0.35325 0.23125 0.35 C 0.24357 0.34792 0.25243 0.32014 0.25833 0.30834 C 0.26423 0.27639 0.2559 0.31575 0.26458 0.28889 C 0.26979 0.27292 0.27118 0.25301 0.27291 0.23612 C 0.27066 0.197 0.26805 0.16505 0.26458 0.12778 C 0.2658 0.08774 0.25677 0.0632 0.275 0.03889 C 0.28107 0.01459 0.29896 0.00047 0.31666 -0.00555 C 0.33194 -0.00439 0.34809 -0.00717 0.3625 -1.48148E-006 C 0.36493 0.00116 0.36649 0.0044 0.36875 0.00556 C 0.37343 0.00811 0.37847 0.00926 0.38333 0.01112 C 0.38541 0.01297 0.38784 0.01412 0.38958 0.01667 C 0.39427 0.02362 0.40208 0.03889 0.40208 0.03889 C 0.40694 0.05811 0.40034 0.03473 0.41041 0.05834 C 0.41475 0.06829 0.4158 0.07524 0.42291 0.08334 C 0.43107 0.09237 0.44132 0.09514 0.45 0.10278 C 0.4585 0.10139 0.46788 0.10232 0.475 0.09445 C 0.47691 0.09237 0.4776 0.08866 0.47916 0.08612 C 0.48698 0.07385 0.49652 0.06204 0.50208 0.04723 C 0.51076 0.02431 0.49635 0.0544 0.50833 0.03056 C 0.51041 0.01899 0.5184 0.00232 0.52708 -0.00277 C 0.53107 -0.00509 0.53541 -0.00648 0.53958 -0.00833 C 0.54375 -0.01018 0.55208 -0.01388 0.55208 -0.01388 C 0.58524 -0.01088 0.5908 -0.02106 0.57916 -0.00555 E">
                                      <p:cBhvr>
                                        <p:cTn id="6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39 0.00046 C 0.09792 -0.00347 0.11563 -0.00602 0.13247 -0.01342 C 0.13455 -0.0162 0.13629 -0.01967 0.13872 -0.02176 C 0.14063 -0.02338 0.14341 -0.02245 0.14497 -0.02454 C 0.14653 -0.02662 0.14566 -0.03055 0.14705 -0.03287 C 0.1507 -0.03912 0.15955 -0.04954 0.15955 -0.04954 C 0.16355 -0.06551 0.17466 -0.07685 0.1783 -0.0912 C 0.179 -0.09398 0.179 -0.09722 0.18039 -0.09954 C 0.18195 -0.10208 0.18455 -0.10324 0.18664 -0.10509 C 0.18941 -0.10787 0.19185 -0.11134 0.19497 -0.11342 C 0.22466 -0.13333 0.19532 -0.1081 0.21372 -0.12454 C 0.22275 -0.12361 0.23178 -0.12315 0.2408 -0.12176 C 0.25452 -0.11944 0.25938 -0.09421 0.26789 -0.08287 C 0.26858 -0.07639 0.27188 -0.04676 0.27205 -0.0412 C 0.27431 0.01551 0.27153 0.06574 0.28872 0.11713 C 0.29115 0.12431 0.29063 0.13403 0.29497 0.13935 C 0.30018 0.1456 0.31372 0.15671 0.32205 0.16158 C 0.3375 0.17037 0.36945 0.16898 0.37622 0.16991 C 0.37952 0.17037 0.41615 0.17801 0.42414 0.17824 C 0.45191 0.17894 0.47969 0.17824 0.50747 0.17824 E">
                                      <p:cBhvr>
                                        <p:cTn id="8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84720" y="-1443960"/>
            <a:ext cx="801720" cy="41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8000" y="1600200"/>
            <a:ext cx="298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0_60852_1ba1e486_XL.gif"/>
          <p:cNvPicPr/>
          <p:nvPr/>
        </p:nvPicPr>
        <p:blipFill>
          <a:blip r:embed="rId2"/>
          <a:stretch/>
        </p:blipFill>
        <p:spPr>
          <a:xfrm>
            <a:off x="3635280" y="-603360"/>
            <a:ext cx="4057920" cy="4681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0_60852_1ba1e486_XL.gif"/>
          <p:cNvPicPr/>
          <p:nvPr/>
        </p:nvPicPr>
        <p:blipFill>
          <a:blip r:embed="rId3"/>
          <a:stretch/>
        </p:blipFill>
        <p:spPr>
          <a:xfrm>
            <a:off x="468360" y="1341360"/>
            <a:ext cx="373068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16720" y="-4810320"/>
            <a:ext cx="3697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24360" y="2349360"/>
            <a:ext cx="1173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7040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0b1ad6d329bbb6d34025560ffb078ca1.jpeg"/>
          <p:cNvPicPr/>
          <p:nvPr/>
        </p:nvPicPr>
        <p:blipFill>
          <a:blip r:embed="rId2"/>
          <a:stretch/>
        </p:blipFill>
        <p:spPr>
          <a:xfrm>
            <a:off x="826920" y="1944720"/>
            <a:ext cx="3673800" cy="3673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0b1ad6d329bbb6d34025560ffb078ca1.jpeg"/>
          <p:cNvPicPr/>
          <p:nvPr/>
        </p:nvPicPr>
        <p:blipFill>
          <a:blip r:embed="rId3"/>
          <a:stretch/>
        </p:blipFill>
        <p:spPr>
          <a:xfrm>
            <a:off x="5435640" y="134136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812000" y="1557000"/>
            <a:ext cx="1332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</a:rPr>
              <a:t>Какой музыкальный инструмент звучал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1152720" cy="1065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flipH="1" rot="16800">
            <a:off x="3276720" y="3499920"/>
            <a:ext cx="1163520" cy="982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1139760" cy="1031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348000" y="494172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788000" y="1989000"/>
            <a:ext cx="1197000" cy="968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324000" y="1628640"/>
            <a:ext cx="747720" cy="1295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324000" y="3284640"/>
            <a:ext cx="74772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324000" y="4941720"/>
            <a:ext cx="74772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8028000" y="1628640"/>
            <a:ext cx="747720" cy="129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8028000" y="3213000"/>
            <a:ext cx="74772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8028000" y="4797360"/>
            <a:ext cx="74772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539640" y="220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53964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tretch/>
        </p:blipFill>
        <p:spPr>
          <a:xfrm>
            <a:off x="53964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7"/>
          <a:stretch/>
        </p:blipFill>
        <p:spPr>
          <a:xfrm>
            <a:off x="831708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8"/>
          <a:stretch/>
        </p:blipFill>
        <p:spPr>
          <a:xfrm>
            <a:off x="824400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9"/>
          <a:stretch/>
        </p:blipFill>
        <p:spPr>
          <a:xfrm>
            <a:off x="824400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L -0.36215 -0.46204 E">
                                      <p:cBhvr>
                                        <p:cTn id="1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5 0.07639 L -0.37257 0.49629 E">
                                      <p:cBhvr>
                                        <p:cTn id="1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-0.20469 0.18912 E">
                                      <p:cBhvr>
                                        <p:cTn id="2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0249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89 -0.07755 L 0.38281 -0.46621 E">
                                      <p:cBhvr>
                                        <p:cTn id="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18519E-006 L 0.18108 -0.01041 E">
                                      <p:cBhvr>
                                        <p:cTn id="3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L 0.37014 0.19931 E">
                                      <p:cBhvr>
                                        <p:cTn id="3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346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847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192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5608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68097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842920" y="259920"/>
            <a:ext cx="397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Играем пальчи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1125360"/>
            <a:ext cx="650412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одочка  плывет по речк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тавляя на воде коле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378936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роход плывет по речк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пыхтит он, словно пе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2631960" cy="2881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0" y="-3373920"/>
            <a:ext cx="457200" cy="9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724360" y="4149720"/>
            <a:ext cx="3024360" cy="24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451640" y="5300640"/>
            <a:ext cx="1419480" cy="1162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7451640" y="2708280"/>
            <a:ext cx="1428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0.62205 0.01065 E">
                                      <p:cBhvr>
                                        <p:cTn id="104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6.66667E-006 L -0.72449 0.01041 E">
                                      <p:cBhvr>
                                        <p:cTn id="119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55556E-006 L -0.58264 5.55556E-006 E">
                                      <p:cBhvr>
                                        <p:cTn id="148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-0.7875 -0.02106 E">
                                      <p:cBhvr>
                                        <p:cTn id="163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5:07:48Z</dcterms:created>
  <dc:creator>Телемакс</dc:creator>
  <dc:description/>
  <dc:language>en-US</dc:language>
  <cp:lastModifiedBy>Телемакс</cp:lastModifiedBy>
  <dcterms:modified xsi:type="dcterms:W3CDTF">2012-10-21T18:34:25Z</dcterms:modified>
  <cp:revision>6</cp:revision>
  <dc:subject/>
  <dc:title>Слайд 1</dc:title>
</cp:coreProperties>
</file>